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99A-1297-4341-BCB9-EEB1E968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42B-4B51-4D9E-8FF0-5EB7F918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BDF-4FD3-4A21-963D-3891820D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AB9-27B0-443D-A954-E9CA7A45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990-0D9D-4C10-B781-38F2796B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54F-3E4A-4680-BE6C-D5B73EFF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327-7D68-4E54-9037-0A6A5E45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76C-36AF-4959-AC78-3FAF9DB5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787-1382-4E70-899E-9621CE91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617-CA93-4EAB-8887-A9A0101A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1B6-95FA-4E78-B029-67E2D967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2DB-95AA-43A2-A79E-FF0E079C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45E6-E36B-4115-8F9C-41DC8B15284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The Caus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2421000"/>
            <a:ext cx="784836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ative verbs are </a:t>
            </a:r>
            <a:r>
              <a:rPr b="0" i="1" lang="en-US" sz="3200" spc="-1" strike="noStrike">
                <a:solidFill>
                  <a:srgbClr val="1f497d"/>
                </a:solidFill>
                <a:latin typeface="Calibri"/>
              </a:rPr>
              <a:t>HAVE, GET, LET and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4996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4. Jimmy is dead. The mafia boss ________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kill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him kill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him to be kill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. Julie will not ________ the boy from across the street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let her daughter marr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let her daughter to marr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let her daughter marr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6. I had the ________ when I was renovating my apartment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wall to be knocked dow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wall knocked dow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wall knock dow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7. I ________ her and apologiz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made him to ca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made him call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made him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8. I have ________ many time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my heart broke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my heart broke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my heart bro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9. The authorities ________ as soon as they found out she was there illegally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her deport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ve her depor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her to be deport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0. I ________ on my lower back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tattoo do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a tattoo do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had a tattoo to be do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The Causa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re are 2 ways of forming the causati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Calibri"/>
              </a:rPr>
              <a:t>MAKE / LET/ HAVE + person + bare infi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i="1" lang="en-US" sz="2400" spc="-1" strike="noStrike">
                <a:solidFill>
                  <a:srgbClr val="1f497d"/>
                </a:solidFill>
                <a:latin typeface="Calibri"/>
              </a:rPr>
              <a:t>GET +person + to infi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e.g. I don't know if my boss will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let me take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the day off. (all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Did somebody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make you wear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that ugly hat? (for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Dr. Smith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ad his nurse take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the patient's temperature. (give responsibility t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Susie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got her son to take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 the medicine even though it tasted terrible. (convince/ trick into tak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The Caus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HAVE/ GET + thing + past partici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e.g. I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had my car serviced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 finally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ot my tooth pulle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e’re having our house decorate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’ve had the whole procedure explaine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( by the manag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the causative to stress the fact that we are ”causing” someone else to do a service for 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mphasis is on the action itself, not on the performer of the action (similar to pass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e Causative </a:t>
            </a:r>
            <a:r>
              <a:rPr b="1" i="1" lang="en-GB" sz="4000" spc="-1" strike="noStrike">
                <a:solidFill>
                  <a:srgbClr val="1f497d"/>
                </a:solidFill>
                <a:latin typeface="Calibri"/>
              </a:rPr>
              <a:t>HAV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268280"/>
          <a:ext cx="8229600" cy="4446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3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s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 have my car serviced every ye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’m having my car servic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 had my car serviced last wee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u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’ll have my car serviced next wee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’ll be having my car servic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sent 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’ve just had my car servic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od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 may have my car serviced next wee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 may be having my car servic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ompa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h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a dentis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ull ou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my to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h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y tooth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ulled ou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by the dent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ausative “ge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” and “get” sometimes used interchangeab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.g. I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ot/ had my roof repaire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” is stronger than “have”, contains a stronger idea of action by the subject and there is a suggestion of difficul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.g. I finally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ot my tooth pulled out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” sounds more natural in the impe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et your eyes teste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Rewrite the following sentences using 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have something d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r windows are cleaned twice a month. 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swimming pool will be drained. 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r bookcase was delivered last week. 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new computer has been ordered for me. 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n’s sculptures are going to be exhibited tomorrow. 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Answer the questions with have/g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d Helen make her wedding dress herself? No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s Jenny going to cut her hair herself? No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s he upgraded the computer himself? No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oes your brother plant the trees himself? No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o you shorten your trousers yourself? No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. I'm going to have Mike ________ my computer to see what is wro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look a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to look a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looked a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 One of my wisdom teeth really hurt, so I went to the dentist ________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to have it remov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to have it remov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to have it to be remov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. Are you going to ________ like this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let him to suff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allow him suff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 let him suff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55:19Z</dcterms:created>
  <dc:creator>http://eng.fon.rs</dc:creator>
  <dc:description/>
  <dc:language>en-US</dc:language>
  <cp:lastModifiedBy>she</cp:lastModifiedBy>
  <dcterms:modified xsi:type="dcterms:W3CDTF">2009-03-29T12:17:42Z</dcterms:modified>
  <cp:revision>13</cp:revision>
  <dc:subject/>
  <dc:title>The Causative</dc:title>
</cp:coreProperties>
</file>